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7EE5-AEFE-40CD-A750-231E54821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5D08-5828-4D41-92A6-ED3C898B1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296B-FD73-46C1-9AB2-7E61DB7C7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492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476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492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476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3418-E1C4-48B5-B42D-AB10FD530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270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10E1-A438-4391-B040-3D08D2035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492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476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44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492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476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1C7B-D875-49E7-928C-CC99EE23A7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270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6492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44760" y="16765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44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6492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44760" y="3826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18C5-1479-4D14-8866-5FDFEF179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08B1-2D3D-481C-A5C1-D356D1F71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270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0698-3856-4FE4-ACFD-347659674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A35D-CABC-478C-A3B6-D938EA5F8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6240" y="3826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2A97-6C6D-4F17-A364-F2CE3BE31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26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4995-0744-4EFB-9D5B-A742E16EC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1" marL="888840" indent="-4395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2" marL="1293840" indent="-40320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3" marL="1681200" indent="-38592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4" marL="2070000" indent="-3873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5" marL="2070000" indent="-387360">
              <a:spcBef>
                <a:spcPts val="1800"/>
              </a:spcBef>
              <a:buClr>
                <a:srgbClr val="29292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  <a:p>
            <a:pPr lvl="6" marL="2070000" indent="-387360">
              <a:spcBef>
                <a:spcPts val="1800"/>
              </a:spcBef>
              <a:buClr>
                <a:srgbClr val="29292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3" name="Picture 11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888840" indent="-4395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93840" indent="-40320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81200" indent="-38592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70000" indent="-3873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888840" indent="-4395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93840" indent="-40320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81200" indent="-38592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70000" indent="-387360">
              <a:spcBef>
                <a:spcPts val="1800"/>
              </a:spcBef>
              <a:buClr>
                <a:srgbClr val="66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70000" indent="-387360"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t.krakow.pl/" TargetMode="External"/><Relationship Id="rId3" Type="http://schemas.openxmlformats.org/officeDocument/2006/relationships/hyperlink" Target="http://www.domalopolski.pl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rewniana.malopolska.pl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ymbol zastępczy stopki 4"/>
          <p:cNvSpPr/>
          <p:nvPr/>
        </p:nvSpPr>
        <p:spPr>
          <a:xfrm>
            <a:off x="32544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43A5-EA35-46B6-8FE9-6EE7A69F28FB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98400" y="1079280"/>
            <a:ext cx="7925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Działania</a:t>
            </a: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Małopolskiej Organizacji Turystycznej </a:t>
            </a: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w roku 2009</a:t>
            </a: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  <a:p>
            <a:pPr marL="4478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19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DC78-9661-4A43-9CB8-996CFC7FC8C6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Symbol zastępczy stopki 7"/>
          <p:cNvSpPr/>
          <p:nvPr/>
        </p:nvSpPr>
        <p:spPr>
          <a:xfrm>
            <a:off x="32544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Symbol zastępczy daty 8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F8D1-5562-43DB-876B-20A445BB43A6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41672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292929"/>
                </a:solidFill>
                <a:latin typeface="Garamond"/>
              </a:rPr>
              <a:t>Szkolenia, warsztaty, konferencje </a:t>
            </a:r>
            <a:endParaRPr b="1" lang="en-US" sz="36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1562040"/>
          <a:ext cx="7632720" cy="4348080"/>
        </p:xfrm>
        <a:graphic>
          <a:graphicData uri="http://schemas.openxmlformats.org/drawingml/2006/table">
            <a:tbl>
              <a:tblPr/>
              <a:tblGrid>
                <a:gridCol w="600120"/>
                <a:gridCol w="1295280"/>
                <a:gridCol w="3228840"/>
                <a:gridCol w="2508480"/>
              </a:tblGrid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ZEDSIĘWZIĘC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 lut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nferencja: Współpraca w zakresie rozwoju i promocji polskiej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-7 kwiet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zedaż oferty turystycznej przez Interne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llegro.pl, Allewakacje.p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 czerwc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eminarium: Kultura, muzyka i dziedzictwo regionaln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łopolski Ośrodek Doradztwa Rolniczego w Karniowicach, Wschodnia Flandr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5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2-23 czerwc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nferencja: Turystyka w Polsce w okresie kryzysu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lskie Stowarzyszenie Turystyki, Miasto 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aździerni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orum Małopolskich Stacji Narciarskic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Województwo Małopolskie, stacje narciarskie, samorządy lokaln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orum Małopolskich Lokalnych Organizacji Turystycznych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T, LOT-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56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ED81-9F57-48C1-878E-7A4F26EB6C2F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CAC9-22E7-443B-81AE-0815601D3F08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8040" y="545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Konkursy i plebiscyty 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422360"/>
          <a:ext cx="7861320" cy="4592520"/>
        </p:xfrm>
        <a:graphic>
          <a:graphicData uri="http://schemas.openxmlformats.org/drawingml/2006/table">
            <a:tbl>
              <a:tblPr/>
              <a:tblGrid>
                <a:gridCol w="415800"/>
                <a:gridCol w="1838520"/>
                <a:gridCol w="2846160"/>
                <a:gridCol w="2760840"/>
              </a:tblGrid>
              <a:tr h="228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ARTNERZY 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yczeń – marzec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„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jlepsza stacja narciarska Małopolski”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jewództwo Małopolskie, POT, TVP 3 Kraków, Radio Kraków Małopolska, Gazeta Krakowsk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wiecień - czerwiec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na Najlepsze Europejskie Destynacje – EDE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isja Europejska, 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wiecień - 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na najlepszy produkt turystyczny – CERTYFIKAT Polskiej Organizacji Turystycz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584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j - 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miątka z Pols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zerwiec – wrzesień 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elkie Odkrywanie Małopolski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jewództwo Małopolskie, POT, TV Kraków, Radio Kraków Małopolska, Polska Gazeta Krakowsk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wiecień - listopad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Odys 200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rakowska Izba Turystyki, 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j - wrzesień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urs fotograficzny „Szlak Architektury Drewnianej”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jewództwo Małopolskie,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60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DE89-3954-4A58-9878-E5377F1A7958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8997-38FB-4B94-B2F4-498F7C8ECD01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8360" y="62208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Public Relations 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1676520"/>
          <a:ext cx="7975440" cy="4194000"/>
        </p:xfrm>
        <a:graphic>
          <a:graphicData uri="http://schemas.openxmlformats.org/drawingml/2006/table">
            <a:tbl>
              <a:tblPr/>
              <a:tblGrid>
                <a:gridCol w="511200"/>
                <a:gridCol w="1482840"/>
                <a:gridCol w="3987720"/>
                <a:gridCol w="1993680"/>
              </a:tblGrid>
              <a:tr h="228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ARTNERZY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-IV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rzebudowa serwisów internetowych </a:t>
                      </a:r>
                      <a:r>
                        <a:rPr b="0" lang="pl-PL" sz="1400" spc="-1" strike="noStrike" u="sng">
                          <a:solidFill>
                            <a:srgbClr val="999933"/>
                          </a:solidFill>
                          <a:uFillTx/>
                          <a:latin typeface="Tahoma"/>
                          <a:ea typeface="Times New Roman"/>
                          <a:hlinkClick r:id="rId2"/>
                        </a:rPr>
                        <a:t>www.mot.krakow.pl</a:t>
                      </a: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 i </a:t>
                      </a:r>
                      <a:r>
                        <a:rPr b="0" lang="pl-PL" sz="1400" spc="-1" strike="noStrike" u="sng">
                          <a:solidFill>
                            <a:srgbClr val="999933"/>
                          </a:solidFill>
                          <a:uFillTx/>
                          <a:latin typeface="Tahoma"/>
                          <a:ea typeface="Times New Roman"/>
                          <a:hlinkClick r:id="rId3"/>
                        </a:rPr>
                        <a:t>www.domalopolski.pl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złonkowie MOT, stacje narciar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1433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spółpraca z mediam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olska Gazeta Krakowska, Dziennik Polski, TVP 3 Kraków, Radio Kraków Małopolska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nformacja o Małopolskiej Organizacji Turystycznej; kształtowanie wizerunku Małopols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Sektor publiczny i prywatny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Udział przedstawicieli Małopolskiej Organizacji Turystycznej w gremiach opiniotwórczych z zakresie turystyki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Sektor publiczny i prywatn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cały rok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Obejmowanie Patronatem MOT imprez, oraz różnego rodzaju inicjatywy związanych z turystyką w Małopolsce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Sektor publiczny i prywatn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ały ro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Współpraca z Aktualnościami Turystycznymi, portalami turystycznymi i prasą branżow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64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1BD0-F351-4691-9249-8D44B037CFE3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7D99-C5CF-45EC-A613-CEAD1E5D33C9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1360" y="2349000"/>
            <a:ext cx="727056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Dziękuję za uwagę 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67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B32E-D1E8-4706-944C-EB271A97EB73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6C26-981D-4575-B3E9-06F7FE3F6B8F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558720"/>
            <a:ext cx="8204400" cy="120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Otwarty Szlak Architektury Drewnianej – </a:t>
            </a:r>
            <a:br>
              <a:rPr sz="2400"/>
            </a:b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zadanie powierzone przez Województwo Małopolskie. </a:t>
            </a:r>
            <a:br>
              <a:rPr sz="2400"/>
            </a:b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Okres realizacji kwiecień – grudzień 2009 r.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35040" y="2158920"/>
            <a:ext cx="812808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Udostępnienie do zwiedzania 50 obiektów sakralnych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akcji promującej Otwarty Szlak Architektury Drewnianej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Uzupełnienie oznakowania drogowego szlaku (80 znaków drogowych)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Konserwacja dużych drewnianych tablic informacyjnych o SAD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Wykonanie ulotek i mapy (łączny nakład 90 000 egz.)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Rozbudowa serwisu internetowego </a:t>
            </a:r>
            <a:r>
              <a:rPr b="0" lang="pl-PL" sz="1900" spc="-1" strike="noStrike" u="sng">
                <a:solidFill>
                  <a:srgbClr val="999933"/>
                </a:solidFill>
                <a:uFillTx/>
                <a:latin typeface="Garamond"/>
                <a:hlinkClick r:id="rId2"/>
              </a:rPr>
              <a:t>www.drewniana.malopolska.pl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cyklu koncertów „Muzyka Zaklęta w Drewnie” (12 koncertów)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konkursu fotograficznego i wystawy pokonkursowej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2 wizyt studyjnych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  <a:p>
            <a:pPr marL="420840" indent="-420840">
              <a:spcBef>
                <a:spcPts val="300"/>
              </a:spcBef>
              <a:buClr>
                <a:srgbClr val="66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292929"/>
                </a:solidFill>
                <a:latin typeface="Garamond"/>
              </a:rPr>
              <a:t>Organizacja seminarium </a:t>
            </a:r>
            <a:endParaRPr b="1" lang="en-US" sz="1900" spc="-1" strike="noStrike">
              <a:solidFill>
                <a:srgbClr val="292929"/>
              </a:solidFill>
              <a:latin typeface="Garamond"/>
            </a:endParaRPr>
          </a:p>
        </p:txBody>
      </p:sp>
      <p:sp>
        <p:nvSpPr>
          <p:cNvPr id="124" name="Symbol zastępczy daty 1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AA64-6033-46DA-A793-82F0952B8CF5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Symbol zastępczy numeru slajdu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632-F4FD-4350-98DD-C7FB5AC41493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Garamond"/>
              </a:rPr>
              <a:t>Zagraniczne targi turystyczne – współpraca z  samorządami terytorialnymi branżą turystyczną</a:t>
            </a:r>
            <a:endParaRPr b="1" lang="en-US" sz="24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676520"/>
          <a:ext cx="7912080" cy="4192560"/>
        </p:xfrm>
        <a:graphic>
          <a:graphicData uri="http://schemas.openxmlformats.org/drawingml/2006/table">
            <a:tbl>
              <a:tblPr/>
              <a:tblGrid>
                <a:gridCol w="900000"/>
                <a:gridCol w="1703520"/>
                <a:gridCol w="2870280"/>
                <a:gridCol w="2438280"/>
              </a:tblGrid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ZWA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EJSCE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-11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ISELIV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slo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18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ERIEN MESSE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edeń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18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TK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lsinki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-18.0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JOSPFES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zym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58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01-2.02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TUR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dry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-9.02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ALON DE VACANCES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uksel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-15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B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rli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-21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T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skw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-22.02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T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diola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-22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P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yż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-28.03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OB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zym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-19.04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C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celona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-8.10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KRAINE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ijów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-12.11.2009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TM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ondy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28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1552-B234-45AD-941F-686D2BA6A59A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3907-5904-4EC4-B514-CC0262F13530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015920"/>
            <a:ext cx="727092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292929"/>
                </a:solidFill>
                <a:latin typeface="Garamond"/>
              </a:rPr>
              <a:t>Krajowe targi turystyczne </a:t>
            </a:r>
            <a:br>
              <a:rPr sz="2800"/>
            </a:br>
            <a:r>
              <a:rPr b="1" lang="pl-PL" sz="2800" spc="-1" strike="noStrike">
                <a:solidFill>
                  <a:srgbClr val="292929"/>
                </a:solidFill>
                <a:latin typeface="Garamond"/>
              </a:rPr>
              <a:t>– współpraca z  samorządami terytorialnymi i branżą turystyczną</a:t>
            </a:r>
            <a:endParaRPr b="1" lang="en-US" sz="28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133720"/>
          <a:ext cx="7925040" cy="2225520"/>
        </p:xfrm>
        <a:graphic>
          <a:graphicData uri="http://schemas.openxmlformats.org/drawingml/2006/table">
            <a:tbl>
              <a:tblPr/>
              <a:tblGrid>
                <a:gridCol w="863640"/>
                <a:gridCol w="1981440"/>
                <a:gridCol w="3098520"/>
                <a:gridCol w="1981440"/>
              </a:tblGrid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ZWA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EJSCE TARG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9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22.0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tourex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snowiec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-5.0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rakowski Salon Turystyczn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-26.0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to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rszaw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-26.0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T Warsa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rszaw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-24.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ur Salo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znań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32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B092-FB52-4B71-AB20-A60C7BEE7EF2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228A-799C-45EC-B20A-F046E7785B14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Wydawnictwa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35040" y="1905120"/>
          <a:ext cx="7924680" cy="2984400"/>
        </p:xfrm>
        <a:graphic>
          <a:graphicData uri="http://schemas.openxmlformats.org/drawingml/2006/table">
            <a:tbl>
              <a:tblPr/>
              <a:tblGrid>
                <a:gridCol w="774720"/>
                <a:gridCol w="1384200"/>
                <a:gridCol w="2768760"/>
                <a:gridCol w="2997000"/>
              </a:tblGrid>
              <a:tr h="453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41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ałopolska aktywnie i na sportowo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, Krakowska Izba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kwartał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apa Szlaku Architektury Drewnia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kwartał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Ulotki o Szlaku Architektury Drewnia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5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Zamki i twierdze Małopols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39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V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Trasa Smakos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OT, 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36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021B-7330-436B-BC69-EDB7057D9589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FCE5-CF75-4D15-86CB-9D7FD371BD0B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Badania ruchu turystycznego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146320"/>
          <a:ext cx="7925040" cy="2055960"/>
        </p:xfrm>
        <a:graphic>
          <a:graphicData uri="http://schemas.openxmlformats.org/drawingml/2006/table">
            <a:tbl>
              <a:tblPr/>
              <a:tblGrid>
                <a:gridCol w="609840"/>
                <a:gridCol w="1638000"/>
                <a:gridCol w="3695760"/>
                <a:gridCol w="1981440"/>
              </a:tblGrid>
              <a:tr h="644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7668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 i 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adania ruchu turystycznego w Województwie Małopolskim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 i 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adania ruchu turystycznego w Krakow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iasto 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40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8620-04D0-4ADA-8D23-F19B3B9B0FEE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0411-C81B-4E6E-B2F0-F52F0EB11589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Nowe Produkty Turystyczne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98400" y="2082960"/>
          <a:ext cx="7925040" cy="1066680"/>
        </p:xfrm>
        <a:graphic>
          <a:graphicData uri="http://schemas.openxmlformats.org/drawingml/2006/table">
            <a:tbl>
              <a:tblPr/>
              <a:tblGrid>
                <a:gridCol w="723960"/>
                <a:gridCol w="1650960"/>
                <a:gridCol w="3568680"/>
                <a:gridCol w="1981440"/>
              </a:tblGrid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9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I-IV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Trasa Smakos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OT, 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44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F556-25D3-4CC4-88B2-3EA651B62BE3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0DFF-62A7-4DE0-8F15-9EAAC2E09E7C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2709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Garamond"/>
              </a:rPr>
              <a:t>Study press/study tours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019240"/>
          <a:ext cx="7924680" cy="2997360"/>
        </p:xfrm>
        <a:graphic>
          <a:graphicData uri="http://schemas.openxmlformats.org/drawingml/2006/table">
            <a:tbl>
              <a:tblPr/>
              <a:tblGrid>
                <a:gridCol w="469800"/>
                <a:gridCol w="1282680"/>
                <a:gridCol w="3581640"/>
                <a:gridCol w="2590560"/>
              </a:tblGrid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AZWA PRZEDSIĘWZIĘC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098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ły ro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zyty zagranicznych dziennikarzy i touroperatorów rekomendowanych przez Polską Organizację Turystyczną oraz Ośrodki Zagraniczne POT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jewództwo Małopolskie, Miasto Kraków, samorządy, branża turystyczn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39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I–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zyty krajowych dziennikarzy po Szlaku Architektury Drewnianej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193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I–III kwartał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izyty dziennikarzy i touroperatorów Szlakiem „tarnowskich niezwykłości” po subregionie tarnowskim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jewództwo Małopolskie, Tarnowskie Centrum Informacj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48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7CEF-7B7B-4FB4-AC7B-5B75673FE070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0196-6A85-426C-81B4-685A03818824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2709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92929"/>
                </a:solidFill>
                <a:latin typeface="Garamond"/>
              </a:rPr>
              <a:t>Imprezy i akcje promocyjne</a:t>
            </a:r>
            <a:endParaRPr b="1" lang="en-US" sz="4000" spc="-1" strike="noStrike">
              <a:solidFill>
                <a:srgbClr val="292929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676520"/>
          <a:ext cx="7924680" cy="4216320"/>
        </p:xfrm>
        <a:graphic>
          <a:graphicData uri="http://schemas.openxmlformats.org/drawingml/2006/table">
            <a:tbl>
              <a:tblPr/>
              <a:tblGrid>
                <a:gridCol w="990720"/>
                <a:gridCol w="1333440"/>
                <a:gridCol w="3619440"/>
                <a:gridCol w="1981080"/>
              </a:tblGrid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ERMIN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ZWA PRZEDSIĘWZIĘCI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FINANSOWANIE/PARTNERZY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3 kwiet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rezentacja Krakowa i Małopolski w Bratysław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iasto Krak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6 maj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Dzień Europy w Kijow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iasto Tarnów, POIT Kijów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914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0 – 12 lipc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Future Stars 2009 (Londyn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, Krakowska Izba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2-13, 19-20 wrześ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Europejskie Dni Dziedzictwa Kulturowego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86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6 – 8 października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Jarmark Zima w Małopolsce (Kijów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, stacje narciar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październik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Małopolskie Obchody Światowego Dnia Turystyki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7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12 grudnia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5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Inauguracja sezonu narciarskiego w Małopolsc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292929"/>
                          </a:solidFill>
                          <a:latin typeface="Tahoma"/>
                          <a:ea typeface="Times New Roman"/>
                        </a:rPr>
                        <a:t>Województwo Małopolskie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52" name="Symbol zastępczy daty 3"/>
          <p:cNvSpPr/>
          <p:nvPr/>
        </p:nvSpPr>
        <p:spPr>
          <a:xfrm>
            <a:off x="685800" y="6248520"/>
            <a:ext cx="21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EDAE-7A5E-4C9D-866B-9155C01374C6}" type="datetime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07/30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C4F1-67F3-4611-BEE4-E3A0853702B3}" type="slidenum"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1:52:35Z</dcterms:created>
  <dc:creator>mirek mot</dc:creator>
  <dc:description/>
  <dc:language>en-US</dc:language>
  <cp:lastModifiedBy>mot</cp:lastModifiedBy>
  <dcterms:modified xsi:type="dcterms:W3CDTF">2009-06-25T09:50:59Z</dcterms:modified>
  <cp:revision>200</cp:revision>
  <dc:subject/>
  <dc:title>Parent Bill of Rig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1251033</vt:lpwstr>
  </property>
</Properties>
</file>