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6.png" ContentType="image/png"/>
  <Override PartName="/ppt/media/image6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4406492137"/>
          <c:y val="0.0590469190248683"/>
          <c:w val="0.960020173307047"/>
          <c:h val="0.648658581403896"/>
        </c:manualLayout>
      </c:layout>
      <c:barChart>
        <c:barDir val="bar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Głęboka patologia organizacyjna</c:v>
                </c:pt>
              </c:strCache>
            </c:strRef>
          </c:tx>
          <c:spPr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c:spPr>
          <c:invertIfNegative val="0"/>
          <c:dLbls>
            <c:txPr>
              <a:bodyPr wrap="none"/>
              <a:lstStyle/>
              <a:p>
                <a:pPr>
                  <a:defRPr b="0" sz="38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Kolumna H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0.2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Niedojrzałość organizacyjna</c:v>
                </c:pt>
              </c:strCache>
            </c:strRef>
          </c:tx>
          <c:spPr>
            <a:solidFill>
              <a:srgbClr val="800080"/>
            </a:solidFill>
            <a:ln w="12600">
              <a:solidFill>
                <a:srgbClr val="ffcc00"/>
              </a:solidFill>
              <a:round/>
            </a:ln>
          </c:spPr>
          <c:invertIfNegative val="0"/>
          <c:dLbls>
            <c:txPr>
              <a:bodyPr wrap="none"/>
              <a:lstStyle/>
              <a:p>
                <a:pPr>
                  <a:defRPr b="0" sz="38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Kolumna H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0.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Organizacja rozwijająca się</c:v>
                </c:pt>
              </c:strCache>
            </c:strRef>
          </c:tx>
          <c:spPr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c:spPr>
          <c:invertIfNegative val="0"/>
          <c:dLbls>
            <c:txPr>
              <a:bodyPr wrap="none"/>
              <a:lstStyle/>
              <a:p>
                <a:pPr>
                  <a:defRPr b="0" sz="38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Kolumna H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0.2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Organizacja dojrzała</c:v>
                </c:pt>
              </c:strCache>
            </c:strRef>
          </c:tx>
          <c:spPr>
            <a:solidFill>
              <a:srgbClr val="6b4794"/>
            </a:solidFill>
            <a:ln w="12600">
              <a:solidFill>
                <a:srgbClr val="339966"/>
              </a:solidFill>
              <a:round/>
            </a:ln>
          </c:spPr>
          <c:invertIfNegative val="0"/>
          <c:dLbls>
            <c:txPr>
              <a:bodyPr wrap="none"/>
              <a:lstStyle/>
              <a:p>
                <a:pPr>
                  <a:defRPr b="0" sz="38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Kolumna H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0.25</c:v>
                </c:pt>
              </c:numCache>
            </c:numRef>
          </c:val>
        </c:ser>
        <c:gapWidth val="150"/>
        <c:overlap val="100"/>
        <c:axId val="51002893"/>
        <c:axId val="57127469"/>
      </c:barChart>
      <c:catAx>
        <c:axId val="51002893"/>
        <c:scaling>
          <c:orientation val="maxMin"/>
        </c:scaling>
        <c:delete val="0"/>
        <c:axPos val="b"/>
        <c:numFmt formatCode="0.00%" sourceLinked="0"/>
        <c:majorTickMark val="out"/>
        <c:minorTickMark val="none"/>
        <c:tickLblPos val="none"/>
        <c:spPr>
          <a:ln w="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  <a:ea typeface="Arial"/>
              </a:defRPr>
            </a:pPr>
          </a:p>
        </c:txPr>
        <c:crossAx val="57127469"/>
        <c:crosses val="autoZero"/>
        <c:auto val="1"/>
        <c:lblAlgn val="ctr"/>
        <c:lblOffset val="100"/>
        <c:noMultiLvlLbl val="0"/>
      </c:catAx>
      <c:valAx>
        <c:axId val="57127469"/>
        <c:scaling>
          <c:orientation val="minMax"/>
          <c:max val="1"/>
          <c:min val="0"/>
        </c:scaling>
        <c:delete val="0"/>
        <c:axPos val="l"/>
        <c:majorGridlines>
          <c:spPr>
            <a:ln w="0">
              <a:solidFill>
                <a:srgbClr val="808080"/>
              </a:solidFill>
            </a:ln>
          </c:spPr>
        </c:majorGridlines>
        <c:numFmt formatCode="0.00%" sourceLinked="0"/>
        <c:majorTickMark val="out"/>
        <c:minorTickMark val="none"/>
        <c:tickLblPos val="nextTo"/>
        <c:spPr>
          <a:ln w="0">
            <a:solidFill>
              <a:srgbClr val="808080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  <a:ea typeface="Arial"/>
              </a:defRPr>
            </a:pPr>
          </a:p>
        </c:txPr>
        <c:crossAx val="51002893"/>
        <c:crosses val="max"/>
        <c:crossBetween val="between"/>
        <c:majorUnit val="0.1"/>
      </c:valAx>
      <c:spPr>
        <a:solidFill>
          <a:srgbClr val="ffffff"/>
        </a:solidFill>
        <a:ln w="0">
          <a:noFill/>
        </a:ln>
      </c:spPr>
    </c:plotArea>
    <c:legend>
      <c:legendPos val="b"/>
      <c:layout>
        <c:manualLayout>
          <c:xMode val="edge"/>
          <c:yMode val="edge"/>
          <c:x val="0.0854614643986979"/>
          <c:y val="0.74739679039568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5" spc="-1" strike="noStrike">
              <a:solidFill>
                <a:srgbClr val="000000"/>
              </a:solidFill>
              <a:latin typeface="Calibri"/>
              <a:ea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solidFill>
        <a:srgbClr val="808080"/>
      </a:solidFill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282" spc="-1" strike="noStrike">
                <a:solidFill>
                  <a:srgbClr val="000000"/>
                </a:solidFill>
                <a:latin typeface="Arial"/>
                <a:ea typeface="Arial"/>
              </a:defRPr>
            </a:pPr>
            <a:r>
              <a:rPr b="0" sz="1282" spc="-1" strike="noStrike">
                <a:solidFill>
                  <a:srgbClr val="000000"/>
                </a:solidFill>
                <a:latin typeface="Arial"/>
                <a:ea typeface="Arial"/>
              </a:rPr>
              <a:t>Słabe punkty</a:t>
            </a:r>
          </a:p>
        </c:rich>
      </c:tx>
      <c:layout>
        <c:manualLayout>
          <c:xMode val="edge"/>
          <c:yMode val="edge"/>
          <c:x val="0.442215939211875"/>
          <c:y val="0.020269821226822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40148436119"/>
          <c:y val="0.0945703462484216"/>
          <c:w val="0.960063615479767"/>
          <c:h val="0.88542566624576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Kolumna B</c:v>
                </c:pt>
              </c:strCache>
            </c:strRef>
          </c:tx>
          <c:spPr>
            <a:solidFill>
              <a:srgbClr val="ff6f00"/>
            </a:solidFill>
            <a:ln w="0">
              <a:solidFill>
                <a:srgbClr val="000000"/>
              </a:solidFill>
            </a:ln>
          </c:spPr>
          <c:invertIfNegative val="0"/>
          <c:dPt>
            <c:idx val="0"/>
            <c:invertIfNegative val="0"/>
            <c:spPr>
              <a:solidFill>
                <a:srgbClr val="000080"/>
              </a:solidFill>
              <a:ln w="0">
                <a:solidFill>
                  <a:srgbClr val="000000"/>
                </a:solidFill>
              </a:ln>
            </c:spPr>
          </c:dPt>
          <c:dPt>
            <c:idx val="1"/>
            <c:invertIfNegative val="0"/>
            <c:spPr>
              <a:solidFill>
                <a:srgbClr val="000080"/>
              </a:solidFill>
              <a:ln w="0">
                <a:solidFill>
                  <a:srgbClr val="000000"/>
                </a:solidFill>
              </a:ln>
            </c:spPr>
          </c:dPt>
          <c:dPt>
            <c:idx val="2"/>
            <c:invertIfNegative val="0"/>
            <c:spPr>
              <a:solidFill>
                <a:srgbClr val="000080"/>
              </a:solidFill>
              <a:ln w="0">
                <a:solidFill>
                  <a:srgbClr val="000000"/>
                </a:solidFill>
              </a:ln>
            </c:spPr>
          </c:dPt>
          <c:dPt>
            <c:idx val="3"/>
            <c:invertIfNegative val="0"/>
            <c:spPr>
              <a:solidFill>
                <a:srgbClr val="000080"/>
              </a:solidFill>
              <a:ln w="0">
                <a:solidFill>
                  <a:srgbClr val="000000"/>
                </a:solidFill>
              </a:ln>
            </c:spPr>
          </c:dPt>
          <c:dPt>
            <c:idx val="4"/>
            <c:invertIfNegative val="0"/>
            <c:spPr>
              <a:solidFill>
                <a:srgbClr val="ff0000"/>
              </a:solidFill>
              <a:ln w="0">
                <a:solidFill>
                  <a:srgbClr val="000000"/>
                </a:solidFill>
              </a:ln>
            </c:spPr>
          </c:dPt>
          <c:dPt>
            <c:idx val="5"/>
            <c:invertIfNegative val="0"/>
            <c:spPr>
              <a:solidFill>
                <a:srgbClr val="ff0000"/>
              </a:solidFill>
              <a:ln w="0">
                <a:solidFill>
                  <a:srgbClr val="000000"/>
                </a:solidFill>
              </a:ln>
            </c:spPr>
          </c:dPt>
          <c:dPt>
            <c:idx val="6"/>
            <c:invertIfNegative val="0"/>
            <c:spPr>
              <a:solidFill>
                <a:srgbClr val="ff0000"/>
              </a:solidFill>
              <a:ln w="0">
                <a:solidFill>
                  <a:srgbClr val="000000"/>
                </a:solidFill>
              </a:ln>
            </c:spPr>
          </c:dPt>
          <c:dPt>
            <c:idx val="7"/>
            <c:invertIfNegative val="0"/>
            <c:spPr>
              <a:solidFill>
                <a:srgbClr val="ff0000"/>
              </a:solidFill>
              <a:ln w="0">
                <a:solidFill>
                  <a:srgbClr val="000000"/>
                </a:solidFill>
              </a:ln>
            </c:spPr>
          </c:dPt>
          <c:dPt>
            <c:idx val="8"/>
            <c:invertIfNegative val="0"/>
            <c:spPr>
              <a:solidFill>
                <a:srgbClr val="ff0000"/>
              </a:solidFill>
              <a:ln w="0">
                <a:solidFill>
                  <a:srgbClr val="000000"/>
                </a:solidFill>
              </a:ln>
            </c:spPr>
          </c:dPt>
          <c:dPt>
            <c:idx val="9"/>
            <c:invertIfNegative val="0"/>
            <c:spPr>
              <a:solidFill>
                <a:srgbClr val="ff0000"/>
              </a:solidFill>
              <a:ln w="0">
                <a:solidFill>
                  <a:srgbClr val="000000"/>
                </a:solidFill>
              </a:ln>
            </c:spPr>
          </c:dPt>
          <c:dPt>
            <c:idx val="10"/>
            <c:invertIfNegative val="0"/>
            <c:spPr>
              <a:solidFill>
                <a:srgbClr val="ffff00"/>
              </a:solidFill>
              <a:ln w="0">
                <a:solidFill>
                  <a:srgbClr val="000000"/>
                </a:solidFill>
              </a:ln>
            </c:spPr>
          </c:dPt>
          <c:dPt>
            <c:idx val="11"/>
            <c:invertIfNegative val="0"/>
            <c:spPr>
              <a:solidFill>
                <a:srgbClr val="ffff00"/>
              </a:solidFill>
              <a:ln w="0">
                <a:solidFill>
                  <a:srgbClr val="000000"/>
                </a:solidFill>
              </a:ln>
            </c:spPr>
          </c:dPt>
          <c:dPt>
            <c:idx val="12"/>
            <c:invertIfNegative val="0"/>
            <c:spPr>
              <a:solidFill>
                <a:srgbClr val="ffff00"/>
              </a:solidFill>
              <a:ln w="0">
                <a:solidFill>
                  <a:srgbClr val="000000"/>
                </a:solidFill>
              </a:ln>
            </c:spPr>
          </c:dPt>
          <c:dPt>
            <c:idx val="13"/>
            <c:invertIfNegative val="0"/>
            <c:spPr>
              <a:solidFill>
                <a:srgbClr val="ffff00"/>
              </a:solidFill>
              <a:ln w="0">
                <a:solidFill>
                  <a:srgbClr val="000000"/>
                </a:solidFill>
              </a:ln>
            </c:spPr>
          </c:dPt>
          <c:dPt>
            <c:idx val="14"/>
            <c:invertIfNegative val="0"/>
            <c:spPr>
              <a:solidFill>
                <a:srgbClr val="008000"/>
              </a:solidFill>
              <a:ln w="0">
                <a:solidFill>
                  <a:srgbClr val="000000"/>
                </a:solidFill>
              </a:ln>
            </c:spPr>
          </c:dPt>
          <c:dPt>
            <c:idx val="15"/>
            <c:invertIfNegative val="0"/>
            <c:spPr>
              <a:solidFill>
                <a:srgbClr val="008000"/>
              </a:solidFill>
              <a:ln w="0">
                <a:solidFill>
                  <a:srgbClr val="000000"/>
                </a:solidFill>
              </a:ln>
            </c:spPr>
          </c:dPt>
          <c:dPt>
            <c:idx val="16"/>
            <c:invertIfNegative val="0"/>
            <c:spPr>
              <a:solidFill>
                <a:srgbClr val="008000"/>
              </a:solidFill>
              <a:ln w="0">
                <a:solidFill>
                  <a:srgbClr val="000000"/>
                </a:solidFill>
              </a:ln>
            </c:spPr>
          </c:dPt>
          <c:dPt>
            <c:idx val="17"/>
            <c:invertIfNegative val="0"/>
            <c:spPr>
              <a:solidFill>
                <a:srgbClr val="008000"/>
              </a:solidFill>
              <a:ln w="0">
                <a:solidFill>
                  <a:srgbClr val="000000"/>
                </a:solidFill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3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4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5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6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7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8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9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0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1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2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3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4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5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6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7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8"/>
                <c:pt idx="0">
                  <c:v>Życzliwość</c:v>
                </c:pt>
                <c:pt idx="1">
                  <c:v>Relacje z przełożonymi</c:v>
                </c:pt>
                <c:pt idx="2">
                  <c:v>Relacje ze współpracownikami</c:v>
                </c:pt>
                <c:pt idx="3">
                  <c:v>Zaufanie</c:v>
                </c:pt>
                <c:pt idx="4">
                  <c:v>Komunikacja</c:v>
                </c:pt>
                <c:pt idx="5">
                  <c:v>Dostęp do informacji</c:v>
                </c:pt>
                <c:pt idx="6">
                  <c:v>Rekrutacja</c:v>
                </c:pt>
                <c:pt idx="7">
                  <c:v>System rozwoju</c:v>
                </c:pt>
                <c:pt idx="8">
                  <c:v>System ocen</c:v>
                </c:pt>
                <c:pt idx="9">
                  <c:v>Wynagrodzenia</c:v>
                </c:pt>
                <c:pt idx="10">
                  <c:v>Gotowość do partycypacji</c:v>
                </c:pt>
                <c:pt idx="11">
                  <c:v>Doskonalenie procesów</c:v>
                </c:pt>
                <c:pt idx="12">
                  <c:v>Odpowiedzialość</c:v>
                </c:pt>
                <c:pt idx="13">
                  <c:v>Relacje zewnętrzne</c:v>
                </c:pt>
                <c:pt idx="14">
                  <c:v>Zabawa</c:v>
                </c:pt>
                <c:pt idx="15">
                  <c:v>Zadowolenie</c:v>
                </c:pt>
                <c:pt idx="16">
                  <c:v>Identyfikacja z organizacją</c:v>
                </c:pt>
                <c:pt idx="17">
                  <c:v>Samorealizacj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8"/>
                <c:pt idx="0">
                  <c:v>9</c:v>
                </c:pt>
                <c:pt idx="1">
                  <c:v>13</c:v>
                </c:pt>
                <c:pt idx="2">
                  <c:v>11</c:v>
                </c:pt>
                <c:pt idx="3">
                  <c:v>6</c:v>
                </c:pt>
                <c:pt idx="4">
                  <c:v>4</c:v>
                </c:pt>
                <c:pt idx="5">
                  <c:v>-4</c:v>
                </c:pt>
                <c:pt idx="6">
                  <c:v>-1</c:v>
                </c:pt>
                <c:pt idx="7">
                  <c:v>-2</c:v>
                </c:pt>
                <c:pt idx="8">
                  <c:v>-5</c:v>
                </c:pt>
                <c:pt idx="9">
                  <c:v>-8</c:v>
                </c:pt>
                <c:pt idx="10">
                  <c:v>13</c:v>
                </c:pt>
                <c:pt idx="11">
                  <c:v>4</c:v>
                </c:pt>
                <c:pt idx="12">
                  <c:v>3</c:v>
                </c:pt>
                <c:pt idx="13">
                  <c:v>5</c:v>
                </c:pt>
                <c:pt idx="14">
                  <c:v>5</c:v>
                </c:pt>
                <c:pt idx="15">
                  <c:v>18</c:v>
                </c:pt>
                <c:pt idx="16">
                  <c:v>11</c:v>
                </c:pt>
                <c:pt idx="17">
                  <c:v>12</c:v>
                </c:pt>
              </c:numCache>
            </c:numRef>
          </c:val>
        </c:ser>
        <c:gapWidth val="0"/>
        <c:overlap val="0"/>
        <c:axId val="8001345"/>
        <c:axId val="22691171"/>
      </c:barChart>
      <c:catAx>
        <c:axId val="800134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 rot="-5400000"/>
          <a:lstStyle/>
          <a:p>
            <a:pPr>
              <a:defRPr b="0" sz="11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2691171"/>
        <c:crosses val="autoZero"/>
        <c:auto val="1"/>
        <c:lblAlgn val="ctr"/>
        <c:lblOffset val="100"/>
        <c:noMultiLvlLbl val="0"/>
      </c:catAx>
      <c:valAx>
        <c:axId val="22691171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001345"/>
        <c:crosses val="min"/>
        <c:crossBetween val="between"/>
      </c:valAx>
      <c:spPr>
        <a:noFill/>
        <a:ln w="0">
          <a:noFill/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5680" cy="124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" Target="../slides/slide6.xml"/><Relationship Id="rId7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" Target="../slides/slide7.xml"/><Relationship Id="rId7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209600" y="69516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209600" y="69516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209600" y="69516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003320" y="695160"/>
            <a:ext cx="4830840" cy="34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003320" y="695160"/>
            <a:ext cx="4830840" cy="34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C46F7-AA8B-4306-8AA3-7B1E129972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2B022-82DA-4A92-944B-5D5E3EDFAE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"/>
          <p:cNvSpPr/>
          <p:nvPr/>
        </p:nvSpPr>
        <p:spPr>
          <a:xfrm>
            <a:off x="1440000" y="563400"/>
            <a:ext cx="5413320" cy="20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2D487-C9B0-472F-A136-37EAE5EAD7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4F26E-46AC-4BC7-A94F-E8E62A64D2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"/>
          <p:cNvSpPr/>
          <p:nvPr/>
        </p:nvSpPr>
        <p:spPr>
          <a:xfrm>
            <a:off x="2062080" y="685800"/>
            <a:ext cx="2708280" cy="339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1003320" y="695160"/>
            <a:ext cx="4830840" cy="34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003320" y="695160"/>
            <a:ext cx="4830840" cy="34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003320" y="695160"/>
            <a:ext cx="4830840" cy="34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003320" y="695160"/>
            <a:ext cx="4830840" cy="34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003320" y="695160"/>
            <a:ext cx="4797360" cy="338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-14227200" y="-11796840"/>
            <a:ext cx="1665612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003320" y="695160"/>
            <a:ext cx="4792680" cy="33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431EA-24E6-40DB-B1CD-7A8E23A4D2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-14227200" y="-11796840"/>
            <a:ext cx="1665612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003320" y="695160"/>
            <a:ext cx="4797360" cy="338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003320" y="695160"/>
            <a:ext cx="4797360" cy="338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003320" y="695160"/>
            <a:ext cx="4797360" cy="338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062080" y="685800"/>
            <a:ext cx="27273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12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1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Druckerem (1994), Prahladem i Bettisem (1986) i Obłojem (2003) zakłdamy, że każda firma jest specyficzn dziedziną wiedzy wymagającą odrębnej teorii do jej rozwiązan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2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Nitsunem (1998), Bernem (1994) i Weickiem (1979 i 2001) zakładamy, że indywidulane struktury poznawcze, szczególnie teorie top managementu i teorie organizacji stanowią wewnętrzny kontekst rozwoju organizacji równie ważny jak kontekst zewnętrzn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3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Staniszkis (2003), Piagetem (1981) złożoność struktur instytucjonalnych i procesów ma sens jedynie jesli niesie za soba odpowiadająca im złożoność struktur poznawczych u osób wprowadzjących te struktu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4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Kwiatkowskim (1947) im więcej osób rozumie zożoność praw rządzących systemem tym większa szansa na jego ropzwój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5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Wojtyłą (1969) przyjmujemy, ze indywidualizm i totalizm jest efektem pozbawienia osoby przymiotu uczestnictwa na poziomie indywidualnych teorii świa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062080" y="685800"/>
            <a:ext cx="27273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12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1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Druckerem (1994), Prahladem i Bettisem (1986) i Obłojem (2003) zakłdamy, że każda firma jest specyficzn dziedziną wiedzy wymagającą odrębnej teorii do jej rozwiązan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2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Nitsunem (1998), Bernem (1994) i Weickiem (1979 i 2001) zakładamy, że indywidulane struktury poznawcze, szczególnie teorie top managementu i teorie organizacji stanowią wewnętrzny kontekst rozwoju organizacji równie ważny jak kontekst zewnętrzn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3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Staniszkis (2003), Piagetem (1981) złożoność struktur instytucjonalnych i procesów ma sens jedynie jesli niesie za soba odpowiadająca im złożoność struktur poznawczych u osób wprowadzjących te struktu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4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Kwiatkowskim (1947) im więcej osób rozumie zożoność praw rządzących systemem tym większa szansa na jego ropzwój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5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Wojtyłą (1969) przyjmujemy, ze indywidualizm i totalizm jest efektem pozbawienia osoby przymiotu uczestnictwa na poziomie indywidualnych teorii świa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143000" y="685800"/>
            <a:ext cx="454968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FBF00-CE27-46FB-88CF-45D0D9A9CE6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F4440-51CF-4158-B2B1-28D134484CC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E0DEA-DAC7-479D-9367-D2FAC7E9BCE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FF218-BE2F-47D9-9AFA-0F1B74C4443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C34DE-1C9F-4D5B-992A-13BA3C5181B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C9E65-E658-428A-9E99-6CBE63216C2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B1CC9-77AF-46BA-BBF5-FE90A4AA6C4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AC493-9D18-496D-96E0-BAB5DADADF9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E7CC9-50BA-4724-AD47-71DFC3F58FC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EEC4F-AC08-4A31-BB5F-A1E54F767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F3DB-F947-4B7B-857B-6F3F301A10E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823D2-F008-47F9-91E8-9E593C36B14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4BAE2-0104-4733-95C1-3CF506B0513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F2D73-8903-4DC5-9214-E74FAAA5313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62DE7-B13B-470B-AAFC-C045F5491EE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B78F3-CD07-4B0C-B829-63D52F287EF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60B8-68EE-4FFB-8F79-55069340DAE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A006-7463-47A8-83B0-33AC61E10FB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5596-5BB3-495B-8C6E-D3894FFFC97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C9E6F-493E-4005-BC74-EA0BF7A57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67257-7FBA-422B-9B02-D220DCB9305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FD2E69-E285-4EBE-8CB8-45496B6EFF5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07BC8D-D54D-4D7D-AC1D-A798B9B7DC8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33C001-A3F5-47DF-AF3F-B126167E158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C389CA-7F34-4CEB-AAC3-2BB121757E3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2087EE-76F3-47A4-AA04-8338B9291F5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C98F9F-8BB5-4D2C-9F0D-595F5836F69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CF67C9-BF04-4F94-A021-A4112DBF147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36AA22-E626-488A-B8AA-5A9EC52807A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1091C-A561-475C-91AE-D7BE875AB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8F3F-7E58-44E5-AD85-CD81490C67D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54654B-3348-49AE-982C-9D80EBA1AD9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AE704-411B-46EB-805C-76D52DAE5F0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9EE459-F6D8-4C6E-8707-7575FA3899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0F4B-7FCC-40BF-AD3B-DBB4882073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1021-B3A2-4FB4-8528-2080591766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7D6C-4D1F-4E27-8D15-75ED0D4C2D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1B79-C69E-40F0-8234-1CF0315A64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B474-DDA6-4534-90DD-EEFAB3A6C9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FB1F-FD84-4AAB-A4F8-F5AA6712B7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355B-1D17-48E0-BFC0-FFCD043087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2D70-289D-4114-A99C-F5C744AF25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18E6-42BB-4E72-ACD2-E215B0DF0A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28D1-B8BD-4D69-ACCE-D803146123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EA42-FA1B-4CA8-85D5-9F292849F9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50C4D-A1E9-469B-A388-6E6C22601F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BC61-AAFF-4884-B2BA-6E95D59DCE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D650-6ADF-4D91-93EB-0004E80C60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740C-720E-4CC4-BBD9-5AD5B62587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F4A0-39A4-4085-AD81-76961B23D5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7175-C49A-498B-8843-C38424CCE9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65E7A-DDB7-42F3-B490-2F33FF2129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B030-0C33-401C-8E65-8EFECCBAE4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72B0-25A9-4AD4-9B94-890F9D0D1E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C2D9-0861-4CAF-8E67-E3A60026AB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6CD5-52C7-47F8-9A54-41AC43F9E1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4133E-3914-4171-9ED6-F348972F03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85D-B71F-4F46-B7AD-1AD40A80B9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E7A-4F69-4E95-B9DC-A877C11915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770-EFDB-4549-9721-89A3BECD0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80B-8EB8-4C92-A7F1-547E75D1EB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5F0-41FF-4DDF-B582-7DF8B0B7EA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8323-A28F-46A4-94E8-9365D0FB61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E1D-245B-4338-8290-2A97C44D67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57B-3A5D-4F60-9ED2-5977576EFF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661-5B7E-49C7-9466-8F744449C8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E198-2FAA-4938-BA56-F405215C34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B2A-16E1-492F-BBD1-13E2371C43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E86-9C4A-4213-9457-C06DF109FBC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60161-0228-4D69-A0F2-988AE7050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DEF83-29F2-448A-A552-81938733010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38131-F70D-42F1-95F1-CE012CA676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3B81E-85C7-4E7D-8B3B-6E7AB813BD8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55051-95AD-4EA6-9493-95518AD1373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3B1E0-A37C-412B-94EB-99B942505B7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135EB-F007-4827-A211-BB6A53CCD72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47071-ACC8-4C46-892E-13686EC21BC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B7186-4E68-4982-8959-0FF1118CF15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BB940-1BC1-457B-9A13-A34D71DCEF2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5CA59-DF9F-4974-A8F9-84109E20A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DCDF5-A349-4C31-A0A7-F13FE7FDB68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9A212-16E5-4D3E-B7CB-8CF0FDF9D8E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FD0FC-AF75-4D6B-9A45-CC33D0EC9BB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64CEC-2A74-4742-810D-6A6B5133C76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13625-0637-46F6-85D0-F9BAE14965E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BD6AE-29E8-4FB5-821A-3710CD76684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6E71C-1329-444C-A47E-49C1DA11C7F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30726-7296-48DF-902A-1C726ABF99B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09A07-F38C-45CE-B405-3AD22998E5F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DC9D9-E2DD-4A19-8F61-19240ECEF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53E23-EA5F-46D5-A031-6A9FA4B50BC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E7260-B7F9-4C5D-8B52-670DFDC91A2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2175A-A464-4FC6-8CE4-7575B4EE9F2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5284-6632-466A-88E0-53A7A7190BF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197B-BCF8-43E7-8C9F-5CF3339C123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7856-E02D-49C7-83C2-20F09CEA1B8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8F6C-6248-40F7-B114-5FBB40EC027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821E-C5E5-4A5C-9A3B-243CDF3A068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C8D0-1E43-4F53-9067-BB149BB9A74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C96C-3050-49D8-AAB1-FBF82E98E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2986-0664-455B-8A65-893A20CFD54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0234-3AE1-4407-AC9B-C3A3B75B727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9381-ABC9-47CA-AB2B-C83C2CBABDC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8FF6-1023-47D3-99F7-5835C1CEDF9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A98E-2CFF-4A57-85EF-A9B85703E5F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1A5F3D-E4CF-4195-BE9C-E531C746012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18BF48-F3D2-4311-8A37-6031654BDEF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959CAA-8836-4C9E-859D-EA67151F3A5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E7954C-8ACC-49F0-B88D-0EE7B9ADFA8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650EE-07BD-4DCC-B679-FD825EC6F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6B757F-DFC6-440C-BB8B-11B3E4D209F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14E989-F35B-4ED3-BE36-CD9FD394A05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E35494-CC1F-45B5-BBB4-8024121D29E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A524D9-F566-4915-8C09-D69BC3971A0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62A32D-0873-47EA-883F-4BF9E3FA8EC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424408-685D-4E06-A94B-13826AF3F2F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CAC149-7C4C-4B82-AEE3-C67DACC6534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87D17-21B7-415B-BEFF-F9835775FFE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1B1DA-3CA3-4BF3-BBA8-A89651C2F88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F7955-D5ED-48E5-BAF9-04952DBE8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C40523A-3A6B-40A5-8826-F705611D84E2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FFA06A-3976-4C75-8906-104504FC983C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9B0945F-4563-4C5D-8F73-3ED77756B826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68DBB3-0CE3-46A4-9C08-4616F6C394C3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15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152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E19DF71-9B20-4B36-B75A-6D65FC64523F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C11CD2-D97D-49D8-A32B-FFC0364D3720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0D5FC5-850D-4418-9B9C-873A6B6B369F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5890FB-D8DD-4BD7-B033-9D87F1A1C925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2FC61B6-DD97-4E5C-8231-CB750EF648E8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A9470D2-4498-4DD7-BEF5-F4AB0219F4BE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54000" y="1828800"/>
            <a:ext cx="2897280" cy="2905200"/>
          </a:xfrm>
          <a:prstGeom prst="ellipse">
            <a:avLst/>
          </a:prstGeom>
          <a:solidFill>
            <a:srgbClr val="b80047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"/>
          <p:cNvSpPr/>
          <p:nvPr/>
        </p:nvSpPr>
        <p:spPr>
          <a:xfrm>
            <a:off x="2676600" y="1828800"/>
            <a:ext cx="2921040" cy="28605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"/>
          <p:cNvSpPr/>
          <p:nvPr/>
        </p:nvSpPr>
        <p:spPr>
          <a:xfrm>
            <a:off x="2097000" y="3159000"/>
            <a:ext cx="2792520" cy="2855880"/>
          </a:xfrm>
          <a:prstGeom prst="ellips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19240"/>
            <a:ext cx="82249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elkie  Igrzyska  Olimpij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/>
          <p:nvPr/>
        </p:nvSpPr>
        <p:spPr>
          <a:xfrm rot="20220000">
            <a:off x="4844880" y="-101520"/>
            <a:ext cx="14083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800" spc="-1" strike="noStrike">
                <a:solidFill>
                  <a:srgbClr val="ff0000"/>
                </a:solidFill>
                <a:latin typeface="Handwriting - Dakota"/>
              </a:rPr>
              <a:t>Ni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"/>
          <p:cNvSpPr/>
          <p:nvPr/>
        </p:nvSpPr>
        <p:spPr>
          <a:xfrm>
            <a:off x="4692600" y="1828800"/>
            <a:ext cx="2921040" cy="2860560"/>
          </a:xfrm>
          <a:prstGeom prst="ellipse">
            <a:avLst/>
          </a:prstGeom>
          <a:solidFill>
            <a:srgbClr val="008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"/>
          <p:cNvSpPr/>
          <p:nvPr/>
        </p:nvSpPr>
        <p:spPr>
          <a:xfrm>
            <a:off x="4149720" y="3159000"/>
            <a:ext cx="2792520" cy="28558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954000" y="1828800"/>
            <a:ext cx="2897280" cy="2905200"/>
          </a:xfrm>
          <a:prstGeom prst="ellipse">
            <a:avLst/>
          </a:prstGeom>
          <a:solidFill>
            <a:srgbClr val="b80047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"/>
          <p:cNvSpPr/>
          <p:nvPr/>
        </p:nvSpPr>
        <p:spPr>
          <a:xfrm>
            <a:off x="2676600" y="1828800"/>
            <a:ext cx="2921040" cy="28605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"/>
          <p:cNvSpPr/>
          <p:nvPr/>
        </p:nvSpPr>
        <p:spPr>
          <a:xfrm>
            <a:off x="2097000" y="3159000"/>
            <a:ext cx="2792520" cy="2855880"/>
          </a:xfrm>
          <a:prstGeom prst="ellips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"/>
          <p:cNvSpPr/>
          <p:nvPr/>
        </p:nvSpPr>
        <p:spPr>
          <a:xfrm>
            <a:off x="3976560" y="3957480"/>
            <a:ext cx="414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19240"/>
            <a:ext cx="82249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elkie  Igrzyska  Olimpij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/>
          <p:nvPr/>
        </p:nvSpPr>
        <p:spPr>
          <a:xfrm rot="20220000">
            <a:off x="4857840" y="-36000"/>
            <a:ext cx="1079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Handwriting - Dakota"/>
              </a:rPr>
              <a:t>Ni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"/>
          <p:cNvSpPr/>
          <p:nvPr/>
        </p:nvSpPr>
        <p:spPr>
          <a:xfrm>
            <a:off x="4692600" y="1828800"/>
            <a:ext cx="2921040" cy="2860560"/>
          </a:xfrm>
          <a:prstGeom prst="ellipse">
            <a:avLst/>
          </a:prstGeom>
          <a:solidFill>
            <a:srgbClr val="008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"/>
          <p:cNvSpPr/>
          <p:nvPr/>
        </p:nvSpPr>
        <p:spPr>
          <a:xfrm>
            <a:off x="4041720" y="3159000"/>
            <a:ext cx="2792520" cy="28558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954000" y="1828800"/>
            <a:ext cx="2897280" cy="2905200"/>
          </a:xfrm>
          <a:prstGeom prst="ellipse">
            <a:avLst/>
          </a:prstGeom>
          <a:solidFill>
            <a:srgbClr val="b80047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"/>
          <p:cNvSpPr/>
          <p:nvPr/>
        </p:nvSpPr>
        <p:spPr>
          <a:xfrm>
            <a:off x="2604960" y="1828800"/>
            <a:ext cx="2921040" cy="28605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"/>
          <p:cNvSpPr/>
          <p:nvPr/>
        </p:nvSpPr>
        <p:spPr>
          <a:xfrm>
            <a:off x="2097000" y="3159000"/>
            <a:ext cx="2792520" cy="2855880"/>
          </a:xfrm>
          <a:prstGeom prst="ellips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"/>
          <p:cNvSpPr/>
          <p:nvPr/>
        </p:nvSpPr>
        <p:spPr>
          <a:xfrm>
            <a:off x="260280" y="1481040"/>
            <a:ext cx="1943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łasność praw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"/>
          <p:cNvSpPr/>
          <p:nvPr/>
        </p:nvSpPr>
        <p:spPr>
          <a:xfrm>
            <a:off x="4575240" y="1538280"/>
            <a:ext cx="2555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łasność psychologicz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"/>
          <p:cNvSpPr/>
          <p:nvPr/>
        </p:nvSpPr>
        <p:spPr>
          <a:xfrm>
            <a:off x="725400" y="5665680"/>
            <a:ext cx="2313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łasność kontrol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"/>
          <p:cNvSpPr/>
          <p:nvPr/>
        </p:nvSpPr>
        <p:spPr>
          <a:xfrm>
            <a:off x="1650960" y="2813040"/>
            <a:ext cx="414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"/>
          <p:cNvSpPr/>
          <p:nvPr/>
        </p:nvSpPr>
        <p:spPr>
          <a:xfrm>
            <a:off x="3062160" y="2489040"/>
            <a:ext cx="414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"/>
          <p:cNvSpPr/>
          <p:nvPr/>
        </p:nvSpPr>
        <p:spPr>
          <a:xfrm>
            <a:off x="4367160" y="2489040"/>
            <a:ext cx="414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"/>
          <p:cNvSpPr/>
          <p:nvPr/>
        </p:nvSpPr>
        <p:spPr>
          <a:xfrm>
            <a:off x="2287440" y="4043520"/>
            <a:ext cx="41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"/>
          <p:cNvSpPr/>
          <p:nvPr/>
        </p:nvSpPr>
        <p:spPr>
          <a:xfrm>
            <a:off x="3094200" y="3370320"/>
            <a:ext cx="41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"/>
          <p:cNvSpPr/>
          <p:nvPr/>
        </p:nvSpPr>
        <p:spPr>
          <a:xfrm>
            <a:off x="3976560" y="3957480"/>
            <a:ext cx="414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"/>
          <p:cNvSpPr/>
          <p:nvPr/>
        </p:nvSpPr>
        <p:spPr>
          <a:xfrm>
            <a:off x="3414600" y="4964040"/>
            <a:ext cx="414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19240"/>
            <a:ext cx="82249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zy aspekty własno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60280" y="355680"/>
            <a:ext cx="7840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ok 1. Auto-diagnoza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527280" y="3492360"/>
            <a:ext cx="5106960" cy="286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9280" y="110880"/>
            <a:ext cx="8640720" cy="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zgadzasz się, ż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28480" y="1008000"/>
            <a:ext cx="821880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ludzie wolą raczej pracę niż bezczynność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ludzie chcą zrozumieć otoczenie, w którym żyją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każdy chce, aby jego wybory były mądre i efektywn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każdy chce być traktowany sprawiedliwie i uczciwi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ludzie z natury są dobrz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agresja jest efektem wpływu danej sytuacji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każdy może pozytywnie się zmienić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ludzie biorą za coś odpowiedzialność jeśli mają na to realny wpływ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ludzie chętnie sobie pomagają jeśli wiedzą jak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ludzie chcą się czuć bezpieczni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6256440" cy="45259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260280" y="355680"/>
            <a:ext cx="7840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ok 2. Diagnoza organizacj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052720" y="1763640"/>
            <a:ext cx="575928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0" spc="-1" strike="noStrike">
                <a:solidFill>
                  <a:srgbClr val="000000"/>
                </a:solidFill>
                <a:latin typeface="Calibri"/>
              </a:rPr>
              <a:t>36%</a:t>
            </a:r>
            <a:endParaRPr b="0" lang="en-US" sz="20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923760" y="1344600"/>
            <a:ext cx="78454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MI – 38         Trust index – 63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770040" y="2970360"/>
          <a:ext cx="7851600" cy="2938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15" name=""/>
          <p:cNvSpPr/>
          <p:nvPr/>
        </p:nvSpPr>
        <p:spPr>
          <a:xfrm flipV="1">
            <a:off x="3949560" y="2098440"/>
            <a:ext cx="1800" cy="865080"/>
          </a:xfrm>
          <a:prstGeom prst="line">
            <a:avLst/>
          </a:prstGeom>
          <a:ln w="468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896080" y="2098440"/>
            <a:ext cx="1440" cy="865080"/>
          </a:xfrm>
          <a:prstGeom prst="line">
            <a:avLst/>
          </a:prstGeom>
          <a:ln w="468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"/>
          <p:cNvSpPr/>
          <p:nvPr/>
        </p:nvSpPr>
        <p:spPr>
          <a:xfrm>
            <a:off x="396720" y="333360"/>
            <a:ext cx="8207640" cy="1008000"/>
          </a:xfrm>
          <a:prstGeom prst="roundRect">
            <a:avLst>
              <a:gd name="adj" fmla="val 16667"/>
            </a:avLst>
          </a:prstGeom>
          <a:solidFill>
            <a:srgbClr val="cd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rebuchet MS"/>
              </a:rPr>
              <a:t>OMI &amp; Trust index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360360" y="1339920"/>
          <a:ext cx="8148600" cy="5416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19" name=""/>
          <p:cNvSpPr/>
          <p:nvPr/>
        </p:nvSpPr>
        <p:spPr>
          <a:xfrm>
            <a:off x="396720" y="333360"/>
            <a:ext cx="8207640" cy="1008000"/>
          </a:xfrm>
          <a:prstGeom prst="roundRect">
            <a:avLst>
              <a:gd name="adj" fmla="val 16667"/>
            </a:avLst>
          </a:prstGeom>
          <a:solidFill>
            <a:srgbClr val="cd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Trebuchet MS"/>
              </a:rPr>
              <a:t>Ogólny obraz organizacji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"/>
          <p:cNvSpPr/>
          <p:nvPr/>
        </p:nvSpPr>
        <p:spPr>
          <a:xfrm>
            <a:off x="3357720" y="1428840"/>
            <a:ext cx="19285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57200" y="317520"/>
            <a:ext cx="4343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rok 3. System wynagrodzeń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rudna rzeczywistość płac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457200" y="2452680"/>
          <a:ext cx="8201160" cy="45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52680"/>
                    <a:ext cx="820116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195720" y="5737320"/>
            <a:ext cx="1654200" cy="4348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28600" y="800280"/>
            <a:ext cx="86868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Arial"/>
              </a:rPr>
              <a:t>Pełna partycypacja w zarządzaniu małymi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5400" spc="-1" strike="noStrike">
                <a:solidFill>
                  <a:srgbClr val="000000"/>
                </a:solidFill>
                <a:latin typeface="Arial"/>
              </a:rPr>
              <a:t>i mikro-firmami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yszard Stock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owarzystwo Doradcz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5133960" y="5715000"/>
            <a:ext cx="822240" cy="7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457200" y="-42840"/>
            <a:ext cx="7543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Krok 2. Eksperci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49320" y="5486400"/>
            <a:ext cx="772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rok 3. Mapa procesów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506520" y="317520"/>
            <a:ext cx="4294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ok 4. Strateg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0" y="-20808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114440" y="66240"/>
            <a:ext cx="5008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  <a:ea typeface="BookmanLIGHT"/>
              </a:rPr>
              <a:t>En la cooperativa todos somos responsables de todo.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”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W spółdzielni wszyscy jesteśmy odpowiedzialni za wszystk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74760" y="5481360"/>
            <a:ext cx="684360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José María Arizmediarriet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57200" y="1434960"/>
            <a:ext cx="82296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łna partycypacja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 firma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rzyjaciół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9360" y="19080"/>
            <a:ext cx="9133200" cy="683748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080" y="98280"/>
            <a:ext cx="8172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niosek – pełna partycypacja to sięganie po niemożliw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853920" y="1554120"/>
            <a:ext cx="7723440" cy="4565520"/>
          </a:xfrm>
          <a:prstGeom prst="rect">
            <a:avLst/>
          </a:prstGeom>
          <a:ln w="0">
            <a:noFill/>
          </a:ln>
        </p:spPr>
      </p:pic>
      <p:cxnSp>
        <p:nvCxnSpPr>
          <p:cNvPr id="539" name=""/>
          <p:cNvCxnSpPr/>
          <p:nvPr/>
        </p:nvCxnSpPr>
        <p:spPr>
          <a:xfrm flipV="1" rot="10800000">
            <a:off x="3999960" y="2285640"/>
            <a:ext cx="714960" cy="307260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40" name=""/>
          <p:cNvCxnSpPr/>
          <p:nvPr/>
        </p:nvCxnSpPr>
        <p:spPr>
          <a:xfrm flipV="1" rot="10800000">
            <a:off x="3285360" y="2285640"/>
            <a:ext cx="1429560" cy="21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41" name=""/>
          <p:cNvCxnSpPr/>
          <p:nvPr/>
        </p:nvCxnSpPr>
        <p:spPr>
          <a:xfrm flipV="1" rot="10800000">
            <a:off x="5500080" y="3071520"/>
            <a:ext cx="286200" cy="221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42" name=""/>
          <p:cNvCxnSpPr/>
          <p:nvPr/>
        </p:nvCxnSpPr>
        <p:spPr>
          <a:xfrm flipV="1" rot="10800000">
            <a:off x="4142520" y="2999880"/>
            <a:ext cx="1572480" cy="23598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43" name=""/>
          <p:cNvCxnSpPr/>
          <p:nvPr/>
        </p:nvCxnSpPr>
        <p:spPr>
          <a:xfrm flipV="1" rot="10800000">
            <a:off x="3357000" y="2928600"/>
            <a:ext cx="2358000" cy="13579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44" name=""/>
          <p:cNvCxnSpPr/>
          <p:nvPr/>
        </p:nvCxnSpPr>
        <p:spPr>
          <a:xfrm flipV="1">
            <a:off x="5785920" y="4857120"/>
            <a:ext cx="43092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45" name=""/>
          <p:cNvCxnSpPr/>
          <p:nvPr/>
        </p:nvCxnSpPr>
        <p:spPr>
          <a:xfrm>
            <a:off x="3499920" y="3071880"/>
            <a:ext cx="361080" cy="2286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46" name=""/>
          <p:cNvCxnSpPr/>
          <p:nvPr/>
        </p:nvCxnSpPr>
        <p:spPr>
          <a:xfrm rot="10800000">
            <a:off x="3357000" y="4428360"/>
            <a:ext cx="2715120" cy="252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47" name=""/>
          <p:cNvCxnSpPr/>
          <p:nvPr/>
        </p:nvCxnSpPr>
        <p:spPr>
          <a:xfrm rot="10800000">
            <a:off x="3785400" y="2856960"/>
            <a:ext cx="2286720" cy="150084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548" name=""/>
          <p:cNvSpPr/>
          <p:nvPr/>
        </p:nvSpPr>
        <p:spPr>
          <a:xfrm>
            <a:off x="396720" y="333360"/>
            <a:ext cx="8207640" cy="1008000"/>
          </a:xfrm>
          <a:prstGeom prst="roundRect">
            <a:avLst>
              <a:gd name="adj" fmla="val 16667"/>
            </a:avLst>
          </a:prstGeom>
          <a:solidFill>
            <a:srgbClr val="cd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rebuchet MS"/>
              </a:rPr>
              <a:t>Elementy systemu TP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428760" y="485784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703760" cy="59436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5440320" y="5478480"/>
            <a:ext cx="3083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lna.partycypacja.p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6858000" y="1577880"/>
            <a:ext cx="2116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rozumieć siebi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858000" y="1577880"/>
            <a:ext cx="2116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rozumieć siebi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060720" y="540072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czestnictwo w naszych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ach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355680" y="3443400"/>
            <a:ext cx="8294760" cy="828720"/>
          </a:xfrm>
          <a:prstGeom prst="roundRect">
            <a:avLst>
              <a:gd name="adj" fmla="val 17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Łowcy i zbieracze – 2 500 000 l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"/>
          <p:cNvSpPr/>
          <p:nvPr/>
        </p:nvSpPr>
        <p:spPr>
          <a:xfrm>
            <a:off x="8664480" y="3436920"/>
            <a:ext cx="41400" cy="828720"/>
          </a:xfrm>
          <a:custGeom>
            <a:avLst/>
            <a:gdLst>
              <a:gd name="textAreaLeft" fmla="*/ 360 w 41400"/>
              <a:gd name="textAreaRight" fmla="*/ 41040 w 41400"/>
              <a:gd name="textAreaTop" fmla="*/ 360 h 828720"/>
              <a:gd name="textAreaBottom" fmla="*/ 828360 h 828720"/>
            </a:gdLst>
            <a:ahLst/>
            <a:rect l="textAreaLeft" t="textAreaTop" r="textAreaRight" b="textAreaBottom"/>
            <a:pathLst>
              <a:path w="21600" h="428834">
                <a:moveTo>
                  <a:pt x="771" y="0"/>
                </a:moveTo>
                <a:arcTo wR="771" hR="771" stAng="16200000" swAng="-5400000"/>
                <a:lnTo>
                  <a:pt x="0" y="428063"/>
                </a:lnTo>
                <a:arcTo wR="771" hR="771" stAng="10800000" swAng="-5400000"/>
                <a:lnTo>
                  <a:pt x="20829" y="428834"/>
                </a:lnTo>
                <a:arcTo wR="771" hR="771" stAng="5400000" swAng="-5400000"/>
                <a:lnTo>
                  <a:pt x="21600" y="771"/>
                </a:lnTo>
                <a:arcTo wR="771" hR="771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8280360" y="4138560"/>
            <a:ext cx="36036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"/>
          <p:cNvSpPr/>
          <p:nvPr/>
        </p:nvSpPr>
        <p:spPr>
          <a:xfrm>
            <a:off x="4319640" y="4564080"/>
            <a:ext cx="3959280" cy="655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sterze i rolnicy ok. 10 000 l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79280" y="249120"/>
            <a:ext cx="4102200" cy="1011240"/>
          </a:xfrm>
          <a:prstGeom prst="rect">
            <a:avLst/>
          </a:prstGeom>
          <a:solidFill>
            <a:srgbClr val="cc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orety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4140360" y="3060720"/>
            <a:ext cx="2339640" cy="34192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79280" y="1515960"/>
            <a:ext cx="2519640" cy="31640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6270480" y="179280"/>
            <a:ext cx="2549520" cy="32403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1079640" y="4011480"/>
            <a:ext cx="2431800" cy="24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2306520" cy="25146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6446880" y="900000"/>
            <a:ext cx="2192400" cy="24289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71360" y="185760"/>
            <a:ext cx="4102200" cy="1011240"/>
          </a:xfrm>
          <a:prstGeom prst="rect">
            <a:avLst/>
          </a:prstGeom>
          <a:solidFill>
            <a:srgbClr val="cc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akty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2859120" y="5373720"/>
            <a:ext cx="1820880" cy="12859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3605040" y="1619280"/>
            <a:ext cx="2514600" cy="7714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5219640" y="503856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6"/>
          <a:stretch/>
        </p:blipFill>
        <p:spPr>
          <a:xfrm>
            <a:off x="4500720" y="2879640"/>
            <a:ext cx="1720800" cy="13240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7"/>
          <a:stretch/>
        </p:blipFill>
        <p:spPr>
          <a:xfrm>
            <a:off x="539640" y="5759280"/>
            <a:ext cx="1470240" cy="8906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8"/>
          <a:stretch/>
        </p:blipFill>
        <p:spPr>
          <a:xfrm>
            <a:off x="2340000" y="1619280"/>
            <a:ext cx="938160" cy="12254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9"/>
          <a:stretch/>
        </p:blipFill>
        <p:spPr>
          <a:xfrm>
            <a:off x="6767640" y="3900600"/>
            <a:ext cx="2232000" cy="13190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7170840" y="360360"/>
            <a:ext cx="1828800" cy="7668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11"/>
          <a:stretch/>
        </p:blipFill>
        <p:spPr>
          <a:xfrm>
            <a:off x="3600360" y="4500720"/>
            <a:ext cx="2522520" cy="6127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2"/>
          <a:stretch/>
        </p:blipFill>
        <p:spPr>
          <a:xfrm>
            <a:off x="179280" y="4175280"/>
            <a:ext cx="2963880" cy="12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260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57200" y="2286000"/>
            <a:ext cx="820728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"/>
          <p:cNvSpPr/>
          <p:nvPr/>
        </p:nvSpPr>
        <p:spPr>
          <a:xfrm>
            <a:off x="1079640" y="3419640"/>
            <a:ext cx="7559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Mieć czy </a:t>
            </a:r>
            <a:r>
              <a:rPr b="0" lang="pl-PL" sz="9600" spc="-1" strike="noStrike">
                <a:solidFill>
                  <a:srgbClr val="000000"/>
                </a:solidFill>
                <a:latin typeface="Calibri"/>
              </a:rPr>
              <a:t>Być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73040" y="216000"/>
            <a:ext cx="3986280" cy="642456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1640" y="685800"/>
            <a:ext cx="4111560" cy="59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ynamika wzrostu własności pracowniczej w Polsc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20:27Z</dcterms:created>
  <dc:creator>apolgrabia</dc:creator>
  <dc:description/>
  <dc:language>en-US</dc:language>
  <cp:lastModifiedBy>Daniel_Lichota</cp:lastModifiedBy>
  <dcterms:modified xsi:type="dcterms:W3CDTF">2009-10-20T07:30:54Z</dcterms:modified>
  <cp:revision>2</cp:revision>
  <dc:subject/>
  <dc:title>Slajd 1</dc:title>
</cp:coreProperties>
</file>