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0EC0-AC54-4134-84A3-7554144311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EE4B-384A-4C6C-9F95-3FE2D7B9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18DC-B4C0-49AC-A76F-4CD21BD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5D28-3BA5-4AF4-BFDA-35EEE4F80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DD59-57B3-4792-9878-71DD28C6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81744-7958-4A95-94B0-8DE389D9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8FF9-C7EC-43CC-B305-536FD845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6A20-1062-4903-9C3B-DCED270B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A2E7-7469-4ED8-98FB-79572304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5BB3-A53C-4CFA-B4A7-F3D5CE3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7AF5-22B5-4956-8395-A0353CF8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AB09-7F71-452C-B23F-293AAC43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002866-487E-495E-9BC1-C028ACF4217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Arial"/>
              </a:rPr>
              <a:t>Stowarzyszenia w prakty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5557680"/>
            <a:ext cx="244800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rzyści działania wspól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162864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YNERGIA   - Synergiczność działań, 2 +2=5, - wspólne działanie dające większe, lepsze efekty; działania uzupełniają się poprzez kooperację (współpracę) i synchronizację. Efekt zorganizowanej pracy zespołowej, który jest wyższy niż suma efektów działań indywidual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18920" y="2700360"/>
            <a:ext cx="10825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19640" y="2879640"/>
            <a:ext cx="144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5400720" y="2700360"/>
            <a:ext cx="1260360" cy="12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140360"/>
            <a:ext cx="306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bb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3860640"/>
            <a:ext cx="19792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iarygodność publicz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3959280"/>
            <a:ext cx="2519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liwości finansowania inicjaty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óżnice pomiędzy stowarzyszeniem a fundacj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60360" y="1800360"/>
            <a:ext cx="845964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1. Odrębna metoda inicjac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2. Cele i mis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3. Model  zarządzan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4. Sprawozdawczość  zewnętrz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4680000"/>
            <a:ext cx="8459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Ad.2. Fundacja – może zostać ustanowiona dla realizacji zgodnych z podstawowymi interesami RP celów społecznie lub gospodarczo użytecznych, w szczególności takich jak: ochrona zdrowia, rozwój gospodarki i nauki, oświata i wychowanie, kultura i sztuka, opieka i pomoc społeczna, ochrona środowiska oraz opieka nad zabytkami (art. 1 Ustawy o fundacja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inansowanie stowarzysz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619280"/>
            <a:ext cx="8099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. Składki członkow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. Dotacje i dofinansow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oże dotować: administracja rządowa i samorządowa poprzez zlecenie realizacji zadań publicznych ze środków publicznych; krajowe lub zagraniczne NGO ; Instytucje wdrażające w ramach UE ; firmy, instytucje (podmioty niepublicz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 Inne (darowizny, zbiórki publiczne , it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Doświadczenia FI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619280"/>
            <a:ext cx="828036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brane przykłady partnerst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*FILO – Gminy Powiatu Krakowiski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edycja Projektu „Moja Gmina – Moje miejsce w Europie” - Projekt w ramach Funduszu Inicjatyw Obywatelskich; opracowanie i wydanie zeszytów ćwiczeń dla uczniów szkół podstawowych z zakresu edukacji regional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*FILO – Senior Fo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rtnerstwo Instytucji z Polski, Danii, Grecji,  Węgier, Irlandii oraz Finlandii na rzecz wspierania mobilności zawodowej osób +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nt z Wydziału Spraw Socjalnych 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*FILO – Welcome Pack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rtnerstwo instytucji z Polski, Litwy, Danii, Szkocji oraz Norwegii w ramach projektu Grundtvig – uczenie się przez całe życie –Portal mobilności zawodow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spółdziałanie firm i producent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60360" y="1619280"/>
            <a:ext cx="5940360" cy="504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79640" y="4680000"/>
            <a:ext cx="360360" cy="36036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20720" y="539640"/>
            <a:ext cx="8099280" cy="6120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0360" y="6119640"/>
            <a:ext cx="539640" cy="5400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3959280"/>
            <a:ext cx="540000" cy="36036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800360"/>
            <a:ext cx="360360" cy="36036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zykład współp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260360"/>
            <a:ext cx="4983120" cy="518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40440" y="1492200"/>
            <a:ext cx="241920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63640" y="1268280"/>
            <a:ext cx="56167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Dziękuję za uwagę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awid Drabik – dawid@filo.org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Fundacja Inicjatyw Lokalnych i Oświat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l. A.Stopki 4 32-065 Krzeszow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ww.filo.org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 co stowarzyszeni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857240"/>
            <a:ext cx="82296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Stowarzyszenie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– dobrowolne, samorządne, trwałe zrzeszenie osób realizujące swoje cele w sposób niezarobkow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193480" y="2708280"/>
            <a:ext cx="12272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2781360"/>
            <a:ext cx="1150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14972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stawa Prawo o stowarzyszeniach z 7 kwietnia 1989 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4292640"/>
            <a:ext cx="2952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stawa o działalności pożytku publicznego i o wolontariacie, z 24 kwietnia 2003 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2637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kty praw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echy stowarzysz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628640"/>
            <a:ext cx="85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browolnoś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woboda organizacyjna stowarzyszeń oraz nieprzymuszona wola uczestnictwa czło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amorządnoś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woboda w ustalaniu zasad działalności wewnętrznej oraz niezależność w stosunku do podmiotów zewnętr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rwałoś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istnieje bez względu na konkretny skład osobowy z zachowaniem odpowiedniej ilości czło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zarobkowy ce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łonkowie nie odnoszą korzyści majątkowych w związku z członkowstwem w stowarzyszeniu – non pro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dzaje stowarzysz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170028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warzyszenia zarejestrowane w Krajowym Rejestrze Sądowym (KRS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warzyszenia zwykłe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warzyszenia jednostek samorządu terytorialnego (np..Związek Gmin i Powiatów Małopolsk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ki stowarzyszeń (federacje) zarejestrowane w KRS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kluby sportowe tzw. stowarzyszenia kultury fizycznej, uczniowskie kluby sportow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towarzyszenia rejestrow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484280"/>
            <a:ext cx="475308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Stowarzyszenie zarejestrowane w KR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jest tworzone przez członków (do założenia stowarzyszenia koniecznych jest min. 15 osób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zorganizowane jest w sposób demokratyczny (najwyższą władzą jest walne zgromadzenie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jest organizacją pozarządową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jest organizacją nienastawioną na zysk, powoływaną w celach niezarobkowych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ma osobowość prawną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działa w oparciu o statut (statut to podstawowy dokument, określający nazwę organizacji, jej cele, wewnętrzną strukturę itp.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jest rejestrowane w Krajowym Rejestrze Sądowy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773360"/>
            <a:ext cx="30974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W związku z rejestracją w KRS stowarzyszenie moż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przyjmować darowizny, spadki, zapisy, otrzymywać dotacje, korzystać z ofiarności publicznej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podejmować finansową współpracę z administracją publiczną i biznesem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prowadzić działalność gospodarczą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łączyć się w związki stowarzyszeń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powoływać oddziały terenow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ubiegać się o status organizacji pożytku publiczneg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565360"/>
            <a:ext cx="1079640" cy="1008000"/>
          </a:xfrm>
          <a:prstGeom prst="rightArrow">
            <a:avLst>
              <a:gd name="adj1" fmla="val 50000"/>
              <a:gd name="adj2" fmla="val 2677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arakterysty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1484280"/>
            <a:ext cx="33130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to zakład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minimum 15 osób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soby fizycz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soby mające pełną zdolność do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czynności praw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bywatele pols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cudzoziemcy, jeśli mają miejsce zamieszkania w Pols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365720"/>
            <a:ext cx="46083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łon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bywatele polscy ( cudzoziemcy zgodnie ze statute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soby mające pełną zdolność do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pełnienia czynności praw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soba prawna – jedynie jako członek wspierający, nie ma prawa głosu w organach stowarzysze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1773360"/>
            <a:ext cx="32400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jąt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nie jest potrzebny na etapie zakładania stowarzyszen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członkowie płacą obowiązkowe składk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284640"/>
            <a:ext cx="28800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gany władz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Zarzą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bowiązkowy organ kontrol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ewnętrznej (np. komisja rewizyj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najwyższą władzą stowarzyszenia jest walne zgromadzenie członków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83280" y="1052640"/>
            <a:ext cx="216072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dzó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rganem kontroli zewnętrznej i nadzoru jest starosta powiatu właściwy ze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zględu na siedzibę stowarzyszeni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780000" y="3498480"/>
            <a:ext cx="1800000" cy="101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490560" y="3355560"/>
            <a:ext cx="2235240" cy="14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82920" y="3213000"/>
            <a:ext cx="8668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19640" y="3066840"/>
            <a:ext cx="3600360" cy="79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Jak założyć stowarzysz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41300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towarzyszenie zarejestrowane powołuje co najmniej 15 osób, które uchwalaj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tatut stowarzyszenia i wybierają komitet założycielski (art. 9). Następnie składaj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dokumenty o rejestrację w Krajowym Rejestrze Sądowy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421000"/>
            <a:ext cx="842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tut stowarzysz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usi zawierać takie podstawowe informacje o stowarzyszeniu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ak (art. 10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zwę (odróżniająca dane stowarzyszenie od innych organizacji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i itp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en działania i siedzibę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i sposoby ich realizacji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nabycia/przyczyny utraty członkostwa, prawa i obowiązk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złonków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ładze stowarzyszenia, sposób ich wyboru, kompetencje (w t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y działania: walnego zebrania członków, zarządu, komisji rewizyjnej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reprezentowania, zaciągania zobowiązań majątkowych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arunki ważności uchwa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zyskiwania środków finansowych i płacenia składek członkowskich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y wprowadzania zmian w statuci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rozwiązania się stowarzyszen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Jak założyć stowarzysz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1628640"/>
            <a:ext cx="84960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2. Zebranie i komitet założycielsk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Następnym krokiem prowadzącym do zarejestrowania stowarzyszenia jest zwoł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zebrania założycielskiego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. Na zebraniu założycielskim przede wszystk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podejmujemy uchwałę o powołaniu do życia stowarzyszenia i wybieramy komit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założycielsk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Co procedujem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chwałę o powołaniu stowarzysze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chwałę o przyjęciu statu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chwała o wyborze komitetu założycielskiego  (niezbędna do rejestracji w KR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Ewentualna uchwała o wyborze władz: zarządu i organu kontroli wewnętrzn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Jak założyć stowarzysz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628640"/>
            <a:ext cx="849600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3. Rejestracja w Krajowym Rejestrze Sądow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XII Wydział K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31-547 Kraków ul. Przy Rondzie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niosek rejestracyjny to formularze i dokumenty (załączniki). Cały wniosek rejestracyjny składamy w dwóch oryginalnych egzemplarzach. Wniosek o rejestrację nowego stowarzyszenia w Krajowym Rejestrze Sądowym i wszystkie formularze podpisuje komitet założycielski. Członkowie komitetu założycielskiego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Verdana"/>
              </a:rPr>
              <a:t>muszą, w ciągu 7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dni od dnia zamknię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zebrania założycielskiego, złożyć we właściwym sądzie formularze o rejestrację 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Krajowym Rejestrze Sądowym wraz z wymaganymi dokumentam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Rejestracja stowarzyszenia, które nie rejestruje działalności gospodarczej powinna być bezpłatna. A rejestracja stowarzyszenia, które rejestruje jednocześnie działalność gospodarczą będzie kosztowała 1500 z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ąd ma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3 miesiące, od dnia złożenia wniosku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, na rozstrzygnięcie wniosku o zarejestrow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towarzysze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9:35:16Z</dcterms:created>
  <dc:creator>Dawid Drabik</dc:creator>
  <dc:description/>
  <dc:language>en-US</dc:language>
  <cp:lastModifiedBy>TM</cp:lastModifiedBy>
  <dcterms:modified xsi:type="dcterms:W3CDTF">2009-11-09T22:46:30Z</dcterms:modified>
  <cp:revision>3</cp:revision>
  <dc:subject/>
  <dc:title>Zakładanie Stowarzyszenia</dc:title>
</cp:coreProperties>
</file>